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F4CB-094C-44E8-B691-8B83F7F61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6A21-5437-4E5B-B1F1-D58E14CB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C0B3-7E13-4CA0-A574-F470C5DBF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E960-29F6-4E6F-9138-D923EEEA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2EA2-47DB-44E8-A880-A18BD329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0DEB-362D-4722-BB5C-4017DAD1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BB3F-F9A8-4AEB-81C0-F5E10CAB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3EDC-797C-4C97-B2F7-914366A9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748F-278E-4131-A406-32D2619F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0DBD-366F-4C37-B88F-272AA4DE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3085-2096-4FA6-A3EB-33EF0A6E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21CF-D8B0-4DA8-9A39-B3878921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CD69-51E1-4E94-93A2-84E7C4DB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FD82-F4EB-4FB0-B37D-C2F4672C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AD05-387A-4FE3-ABD8-3E5DBC63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B623-A5A5-4692-98A1-538559B1F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9E30-A120-4B5E-8C76-8E2EA2BA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89FA1-2A2B-4A48-A81A-D762AC093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3976E-CCE4-4B16-B7C9-3335B020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D84E4-C726-46A5-BFF4-791149B6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92BBF-AD4A-4E18-8540-1E3AB400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23F05-3E27-4CFA-85A9-DD577B20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0996-0A04-4B06-AB19-671BA00E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2BBDD-29B6-4DA7-B7A1-AE034988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6671E-85A7-4238-B75F-297C7BF8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530C2-8A7E-4F95-89ED-3D18F51A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72A10-47BE-4948-8A62-D43DCD96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EBBB3-50A0-4C94-A71C-BDDC5AD8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FD1AB-2964-48E4-B4FD-27D2850A5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EE9B5-10AA-404D-B774-3E19738E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2896F-8A89-44FA-B309-7C294E1C4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6B6E6-765A-44B0-9A35-556BE247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54890-3EB2-4295-825A-92EBAB29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3FBF-A823-41DC-83F8-E10DD3DE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1CF0E-1044-4B94-B04C-8277BF5F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6AC43-96CA-44D1-B208-EAD5D9A3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624E8-6BFE-4DED-9AF3-7F89355A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7969F-258D-43BE-ADD1-A367DB4D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99DF9-5E8A-4F36-AFE2-ED237E68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9C4F7-F875-43DC-AA3C-1484D19E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FC9FF-C670-421E-AE03-8FBF64DD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1A6EF-4F31-47C9-831A-0D0F95F47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4FDBA-E05D-4D87-B461-F574A4642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2CFEA-B87E-4045-9992-0063EB726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1492-3A52-4DBB-A08A-C682D568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36571-1AFF-490F-B292-18382FCC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EA196-DC06-4569-9689-1EE6478C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12888-F8FE-4E33-AA27-AD9AEAC5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EFC92-4CFB-4850-A304-D73C4D86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2F8DD-4B45-4CE1-BF3A-58AE5D21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3594A-2B83-448A-AA91-D1DD0B65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054A9-5455-4FF4-B0AA-3987B57C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E271E-7EBB-4B00-96E6-9D453F3F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B94BD-A56D-4F36-B2DE-9E45514F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1B4FE-A8DD-4398-B6B1-E9E969C7D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BC7E-EB86-43F4-9853-FA040B22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4C368-B2A9-43BC-ADCA-0112B6011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936B7-3F70-4547-AACC-337367C7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5093B-9208-4D88-9998-B0328A3E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83A33-A466-4959-9397-25188B93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7814D-16C3-446D-930A-A916D74F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8ECCA-7DCC-4234-BE70-C89B09DE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01CA5-FF9B-4E0B-BB78-C3A02ED1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39F4C-FC71-4B9A-83C5-C6912817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A0825-8D96-4068-AB45-AE36E308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7C797-7E3B-4C9C-909E-F3F5F5F5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A18F-6ECD-4CE0-A11B-B6EFDF70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26D14-DC8E-42B0-9275-DBC20A2F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22A66-A368-4F57-9F62-51200409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12B32-FA23-40D5-B2EF-7C844454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84746-00D0-4902-99B1-061BD5BB5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B6DDE-DD01-4A3E-B1DF-106F2E7A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53D93-C211-4217-8F4B-5D7FBC65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26169-D652-4B37-9B85-4BCE2CAE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0964D-21C1-45D8-9611-745850B3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D4A40-64CA-4033-90D7-6190CD29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5F4C4-83C9-48D8-9DE0-68FF54F3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31D0-B1C1-477D-B5D6-902E2DBE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7FB48-12AA-4F79-B171-D467473D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96A60-D582-43ED-9068-02248289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2B2B9-8669-42F4-8EAA-8F7395C3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FECB6-FF88-4AB2-A4C0-C66A6C87E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2430D-CC72-4DBB-8ED3-96FD2242D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3FBE-3A29-4935-AF23-371B1FBC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CBB8-6BFA-4C50-9645-3EEFE899FC6E}" type="slidenum">
              <a:rPr b="0" lang="en-GB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3398-5C6E-4967-8B77-1DC0D7241EF5}" type="slidenum">
              <a:rPr b="0" lang="en-GB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4835-A280-4E12-AD6A-FF58A785C240}" type="slidenum">
              <a:rPr b="0" lang="en-GB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9207-5264-4866-A509-858676DF6A6B}" type="slidenum">
              <a:rPr b="0" lang="en-GB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EF04-F5F3-4545-8663-1D6E485C82AF}" type="slidenum">
              <a:rPr b="0" lang="en-GB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336E-609F-41BF-84D1-E12DDAF963F9}" type="slidenum">
              <a:rPr b="0" lang="en-GB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58C6-CB7C-4799-B3ED-01D1CF9C2D17}" type="slidenum">
              <a:rPr b="0" lang="en-GB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o.uk/imgres?imgurl=http://www.stbenedictscollege.co.uk/uploads/assets/national_newspapers_montage.jpg&amp;imgrefurl=http://www.stbenedictscollege.co.uk/subjects/%3Fid%3D20&amp;usg=__cjjDjKdnKvA-XsJ0fECUc0yI6vQ=&amp;h=341&amp;w=580&amp;sz=66&amp;hl=en&amp;start=1&amp;zoom=1&amp;itbs=1&amp;tbnid=I6E9cFO291i7PM:&amp;tbnh=79&amp;tbnw=134&amp;prev=/images%3Fq%3Dmedia%2Binstitutions%26hl%3Den%26gbv%3D2%26tbs%3Disch:1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google.co.uk/imgres?imgurl=http://www.biojobblog.com/uploads/image/social-media-points5(2).gif&amp;imgrefurl=http://www.biojobblog.com/tags/institution/&amp;usg=__VyDq9C51Ep_qHc13BSku8DFVh2c=&amp;h=358&amp;w=500&amp;sz=32&amp;hl=en&amp;start=2&amp;zoom=1&amp;itbs=1&amp;tbnid=jYQrnZ4lOsQD-M:&amp;tbnh=93&amp;tbnw=130&amp;prev=/images%3Fq%3Dmedia%2Binstitutions%26hl%3Den%26gbv%3D2%26tbs%3Disch:1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google.co.uk/imgres?imgurl=http://www.stretchlimos.co.uk/TV_Channels_For_Free.jpg&amp;imgrefurl=http://www.stretchlimos.co.uk/VIP_Limousine_Hire.htm&amp;usg=__O0mfHJi6WqiBh__VD4xsZOV-XGo=&amp;h=290&amp;w=484&amp;sz=44&amp;hl=en&amp;start=2&amp;zoom=1&amp;itbs=1&amp;tbnid=YwTUOWGcojt1mM:&amp;tbnh=77&amp;tbnw=129&amp;prev=/images%3Fq%3Dtv%2Bchannels%26hl%3Den%26gbv%3D2%26tbs%3Disch:1" TargetMode="Externa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colophon2007.com/uploaded/file-LittleWhiteLies-1353_0.jpg&amp;imgrefurl=http://www.welovecolophon.com/newsletter/archive/newsletter_20061128.html&amp;usg=__DimtYrq6GjYh1Z3ig-ug9IrRLT0=&amp;h=579&amp;w=472&amp;sz=132&amp;hl=en&amp;start=19&amp;zoom=1&amp;itbs=1&amp;tbnid=Y2HT80sZCOXybM:&amp;tbnh=134&amp;tbnw=109&amp;prev=/images%3Fq%3Dlittle%2Bwhite%2Blies%2Bmagazine%26hl%3Den%26gbv%3D2%26tbs%3Disch:1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google.co.uk/imgres?imgurl=http://www.changethethought.com/wp-content/littlewhitelies.jpg&amp;imgrefurl=http://www.changethethought.com/tag/magazines/&amp;usg=__do57IOb3GVM-3hdrqhcluqkHT4k=&amp;h=670&amp;w=545&amp;sz=66&amp;hl=en&amp;start=6&amp;zoom=1&amp;itbs=1&amp;tbnid=DLgmsrMOlXoNfM:&amp;tbnh=138&amp;tbnw=112&amp;prev=/images%3Fq%3Dlittle%2Bwhite%2Blies%2Bmagazine%26hl%3Den%26gbv%3D2%26tbs%3Disch:1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www.google.co.uk/imgres?imgurl=http://www.hypebeast.com/image/2009/10/geoff-mcfetridge-little-white-lies-where-the-wild-things-issue-3.jpg&amp;imgrefurl=http://hypebeast.com/2009/10/geoff-mcfetridge-white-lies-huck-wild-magazine-covers/&amp;usg=__zks1BAl9bg0TQjni5_H4rD8bxqI=&amp;h=760&amp;w=620&amp;sz=76&amp;hl=en&amp;start=2&amp;zoom=1&amp;itbs=1&amp;tbnid=hX9HuVaNufsssM:&amp;tbnh=142&amp;tbnw=116&amp;prev=/images%3Fq%3Dlittle%2Bwhite%2Blies%2Bmagazine%26hl%3Den%26gbv%3D2%26tbs%3Disch:1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abc.net.au/reslib/200901/r327806_1472907.jpg&amp;imgrefurl=http://www.abc.net.au/news/stories/2009/01/04/2458682.htm&amp;usg=__gOSk5kv2SADQ0r1vvtk9jZr2O5M=&amp;h=478&amp;w=840&amp;sz=58&amp;hl=en&amp;start=8&amp;zoom=1&amp;itbs=1&amp;tbnid=ZIyccniKdov3_M:&amp;tbnh=83&amp;tbnw=145&amp;prev=/images%3Fq%3Ddr%2Bwho%2BBBC%26hl%3Den%26gbv%3D2%26tbs%3Disch: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google.co.uk/imgres?imgurl=http://www.pinknews.co.uk/images/coronationstreet.jpg&amp;imgrefurl=http://www.pinknews.co.uk/2010/07/20/lesbian-coronation-street-plot-not-a-phase/&amp;usg=__iwJ3DLQd-XBmJLNfAejy4sYfEWY=&amp;h=300&amp;w=300&amp;sz=28&amp;hl=en&amp;start=5&amp;zoom=1&amp;itbs=1&amp;tbnid=_lD-GlxKtYjoiM:&amp;tbnh=116&amp;tbnw=116&amp;prev=/images%3Fq%3Dcoronation%2Bstreet%26hl%3Den%26gbv%3D2%26tbs%3Disch:1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www.google.co.uk/imgres?imgurl=http://www.sciencemediacentre.co.nz/wp-content/upload/2009/01/sun_front_page.jpg&amp;imgrefurl=http://www.sciencemediacentre.co.nz/2009/01/26/do-embargoes-make-journalists-lazy/&amp;usg=__ZOzE3euliZaJzeQdDGRgfNTzJyA=&amp;h=592&amp;w=472&amp;sz=73&amp;hl=en&amp;start=15&amp;zoom=1&amp;itbs=1&amp;tbnid=qYKgL-E8I2vK-M:&amp;tbnh=135&amp;tbnw=108&amp;prev=/images%3Fq%3Dthe%2Bsun%2Bnewspaper%26hl%3Den%26gbv%3D2%26tbs%3Disch:1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uninorte.edu.co/noticias_uninorte/upload/Image/Manuel_Alvarado_nota.jpg&amp;imgrefurl=http://www.uninorte.edu.co/noticias_uninorte/secciones.asp%3FID%3D243&amp;usg=__pHlVgoxQ4thiN9Pzb7hTJcZremc=&amp;h=290&amp;w=420&amp;sz=180&amp;hl=en&amp;start=1&amp;zoom=1&amp;itbs=1&amp;tbnid=QcbzVt4MmNP1TM:&amp;tbnh=86&amp;tbnw=125&amp;prev=/images%3Fq%3Dmanuel%2Balvarado%26hl%3Den%26gbv%3D2%26tbs%3Disch:1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rbel"/>
              </a:rPr>
              <a:t>AS Media Studi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43640" y="476280"/>
            <a:ext cx="2293920" cy="135252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00720" y="981000"/>
            <a:ext cx="1985760" cy="1420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227640" y="1844640"/>
            <a:ext cx="230364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260280"/>
            <a:ext cx="1990440" cy="24480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71640" y="907920"/>
            <a:ext cx="1644840" cy="20257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71640" y="3068640"/>
            <a:ext cx="1941480" cy="23763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4211640" y="2602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ittle White Lie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148360" y="134136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mall, bi-monthly independent movie magaz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51640" y="836640"/>
            <a:ext cx="36036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588000" y="2781360"/>
            <a:ext cx="23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ocked in selected WH Smith stores and some independent cine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08720" y="2133720"/>
            <a:ext cx="0" cy="57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708360" y="4221000"/>
            <a:ext cx="230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ublished and distributed by The Church of Lond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724360" y="4220640"/>
            <a:ext cx="7923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84720" y="5589720"/>
            <a:ext cx="273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mall, independent creative agency based in Lond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003640" y="5516640"/>
            <a:ext cx="10810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Convergence of old and new me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00000" y="1989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All terrestrial broadcasters and newspaper owners have bought into the interne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Murdoch’s News Corporation has bought MySpac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Google started as a search engine – now owns YouTube, online advertising group DoubleClick and has expanded its advertising business into TV, print, radio and mobil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Key questions..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What is the institutional source of the text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In what ways has the text been influenced or shaped by the institution which produced it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Is the source a public service or commercial institution?  What difference does it make to the text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Who owns and controls the institution concerned and does this matter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How has the text been distributed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**Key Term**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971640" y="1484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ffffff"/>
                </a:solidFill>
                <a:uFillTx/>
                <a:latin typeface="Corbel"/>
              </a:rPr>
              <a:t>Institu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The organisation or company that produces and/or distributes media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An institution is formed by the relations of production, distribution, consumption and regulation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1eeff"/>
                </a:solidFill>
                <a:latin typeface="Consolas"/>
              </a:rPr>
              <a:t>Understanding institution is about understanding…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Who produces media tex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What their set of codes and values ar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What their relationship is to us as individual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1476360" y="5589720"/>
            <a:ext cx="669780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When analysing a media text..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What is the institution behind the text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In what ways has the text been influenced or shaped by the institution that produced it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Is the source a public service or commercial institution – what difference does this make to the text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How has the text been distributed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549360"/>
            <a:ext cx="3283200" cy="187956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0920" y="4005360"/>
            <a:ext cx="2303640" cy="23032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72360" y="2349360"/>
            <a:ext cx="1842840" cy="230508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5651640" y="836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619280" y="321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084720" y="537372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ews Interna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Manuel Alvarad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In </a:t>
            </a:r>
            <a:r>
              <a:rPr b="0" i="1" lang="en-GB" sz="2800" spc="-1" strike="noStrike">
                <a:solidFill>
                  <a:srgbClr val="ffffff"/>
                </a:solidFill>
                <a:latin typeface="Corbel"/>
              </a:rPr>
              <a:t>Learning the Media</a:t>
            </a: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, he lists 7 features that shape media institutions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FINANC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PRODUCTION PRACTIC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TECHNOLOG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LEGISLATIO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CIRCULATIO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AUDIENCE CONSTRUCTIO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AUDIENCE US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3573360"/>
            <a:ext cx="16221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Large Conglomerate Corporation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00000" y="1557000"/>
            <a:ext cx="777240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The mainstream institutions commission and select material that fits their agenda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All institutions need to make money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Commercial institutions are supported by advertising revenue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They pay for the production of the tex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Have an interest in its content, style and attitude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They may also organise marketing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332000" y="620640"/>
            <a:ext cx="2871720" cy="424836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7308720" y="260280"/>
            <a:ext cx="1576440" cy="252108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5219640" y="1413000"/>
            <a:ext cx="1620720" cy="25923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7164360" y="3500280"/>
            <a:ext cx="1486080" cy="23767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1979640" y="544500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rry Potter and the Deathly Hallows Part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Independent Institution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Independent and free from the financial and organisational influence of the large scale corporations that dominate the market and industr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They are often small scale, appeal to a niche audienc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Often distributed and consumed in different places to that of mainstream media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0:46:28Z</dcterms:created>
  <dc:creator>Grainne</dc:creator>
  <dc:description/>
  <dc:language>en-US</dc:language>
  <cp:lastModifiedBy>gbrolly940</cp:lastModifiedBy>
  <dcterms:modified xsi:type="dcterms:W3CDTF">2010-10-12T08:39:04Z</dcterms:modified>
  <cp:revision>16</cp:revision>
  <dc:subject/>
  <dc:title>Institution</dc:title>
</cp:coreProperties>
</file>